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44C-0E60-42E1-9B7A-87C9FD30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EB2-E27E-42DE-A063-10E8960D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256-2D9E-49E4-A547-29A7ED72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F92-F41D-4B82-8D37-30B0B5BA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979-EF9E-479C-846D-8D292652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F4D-049A-4F70-A764-AE1D8441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481-355A-4FAC-8EB9-DD9FF252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922-1593-4D29-91A3-70590F70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73A-BDD1-4A30-B639-29B9B8F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6EF-4544-4EB5-95BC-9D6E37E2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4E6-A9F7-40B4-AD42-E027373D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8C9-AC01-4CDE-A475-4C19CD6E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15B10-C0CB-4619-B728-82A7C44650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2C727-35B7-45E7-8378-3951FAC2B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hand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Aver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Column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 – circuit draw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6.1 Electric Circ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Column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1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Draw a closed circuit – label all the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raw an open circuit – label all the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that your light bulb is colored to show if it is lit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 Independent Practic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98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738080"/>
            <a:ext cx="4283280" cy="48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098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Circ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1738080"/>
            <a:ext cx="4275000" cy="48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610320" y="2746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1:03:07Z</dcterms:created>
  <dc:creator>Caroline Roth</dc:creator>
  <dc:description/>
  <dc:language>en-US</dc:language>
  <cp:lastModifiedBy>Caroline Roth</cp:lastModifiedBy>
  <cp:lastPrinted>2011-01-24T03:21:13Z</cp:lastPrinted>
  <dcterms:modified xsi:type="dcterms:W3CDTF">2011-05-24T23:33:35Z</dcterms:modified>
  <cp:revision>5</cp:revision>
  <dc:subject/>
  <dc:title>6.1 Electric Circuits</dc:title>
</cp:coreProperties>
</file>